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E1F-1BE2-45FE-A919-4D388B76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C87-D328-4D3E-BA9A-17D3471D4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9E7-D135-4CD9-A3D2-EFEC9DA84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65C-47A3-4751-8D0B-ECF4378EB9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06A-4C1F-4165-AF9B-1FDD3833F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308-6DC9-4346-A7A8-02F1784B6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032-2C86-44A4-95FC-EC08B6A58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156-8CE8-4346-9405-82A2626FB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6A7-B3AD-4C6E-9F45-6B7CFB5E85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627-2822-430F-9448-7432D12B00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861-5EF5-4759-9B25-7BE7E760C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76E-E963-451C-8393-1AE36DBA2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B697-6EA0-437A-A23D-0AEB45CDC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E39-08F1-4F8A-8D2B-A445596705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67BF-58A0-4E9D-9CFF-9B3E0B6A06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5B-1E9A-4C3E-9E7D-73A96466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B22-EC70-4B92-9EA9-2EB3490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9EE-CCEB-4EC4-AA5D-E27506A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DF3-CDD2-49C6-BC63-A4106EB8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0E8-E43D-4503-A1E4-BBEF5B0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06F-38B1-4537-88A0-89C45E0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EDF-5D57-4B5C-958A-8EF7DD4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FCCF-5807-4ADD-9902-214E48A0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3A20-26C3-488A-96AF-ABEA657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8932-5CCE-45D8-B967-99190349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3128-E4BE-4414-9225-63A2B27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D1B-B30E-4B83-ADC2-8AE122F5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1A3A-9461-4D85-890C-1773046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D5C-9D73-4F86-ADF0-C0B7F12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F0FF-E062-4679-842B-FCB34A22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3EE-FEF7-4144-973C-A220A74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E4A0-9A11-42F0-B80E-9E7FC45D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8267-67C5-420B-A09A-DC230A1C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1F2B-520F-431B-A954-76F4349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569E-5941-4ED1-AA78-5CC835B8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A07A-6CFE-4324-A4E9-F451677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1C20-E367-4325-BD34-6AB6B5E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074-B6AE-44C8-9DBF-C1D7167A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86FA-ACAE-4AAB-964B-B7F71033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B9AF-99B4-4945-8900-CD252B7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FFF9-FFFB-4FEE-BFE1-5BB8890C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5EA0-4FD6-48A7-B5BF-1A8896A7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0D9F-A1BC-403C-A880-39F402C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845B-5AC9-418F-B15D-B4F6253A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A6A9-A9FE-44BD-82EB-FA2363AC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BB39-A25A-4B90-A0F2-1691B4D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CDCC-90F0-48ED-891A-92DCC70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4005-CBC0-4647-86FB-3A478A23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003-C741-4001-B554-92BA728E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5505-4932-4526-9251-3F6AD6A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9369-6935-40CC-AC4C-5117A32E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FFA0-CA52-471D-AE83-88106B3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9D09-06C1-46F4-9F82-F5004C5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0982-46B0-4FBC-826D-A98A878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9A92-5943-4958-B521-479E294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ED8D-012E-4B08-BF6D-8B6842B8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D6F8-8FA0-420E-885F-9989127A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595A-2690-4FBE-9528-E254FC8F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D293-5527-4201-871D-04AB86A5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838-5DD7-4842-93F6-343092B2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A98F-A786-40D1-91B2-C2F9760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3E27-8B65-4135-A89E-1032AEC6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EF10A-91F5-441B-9848-0B8B46F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7477-774A-4BC6-A7A5-80B991E2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C0FF-D000-4F09-A667-E518E5D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E3C7-4D6A-47E5-88C8-C987708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474F-6065-4259-BE66-203963C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E306-A13B-44D8-A06B-A4A04C6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B354-5A75-4D24-8AAE-60D8EE9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9FF4-9F47-4B49-830A-DB518123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228-AF3C-4F5B-A7E6-654085A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28B2-2A6A-49C9-ACFC-C5348177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612-064D-4A92-ABC2-C4F450B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156-172D-43CB-B8F5-BD4E420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D6D-FBB6-4964-8AF1-C1D45F7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D27-0F37-4BF2-949D-7CBEBD51E0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5F86-AAA5-4A78-849A-B712033CE8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206D-0BF8-4386-A3E2-3A659127AE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89B-EFD0-487E-85F2-A574A57A78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F6BB-55A8-4BC6-B02F-4622CDDABF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HYSIOLOGY OF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AIN IS NECESSAR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GNAL OF TISSUE INJURY OR DAM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 PROTECTIVE MECHANIS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WHAT INFLUENCES PERSONS REACTION TO PAIN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ULTURAL VALU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AST EXPERIENC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RELIGIUOUS BELIEF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RESENCE OR LACK OF EMOTIONAL SUPPOR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SCALE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 TOOL USED TO MEASURE A PERSON’S PERCEPTION OF PAIN INTENSITY AND QUALIT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AC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UMBER CHAR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58" name="Picture 5" descr="pain scale 1.jpg"/>
          <p:cNvPicPr/>
          <p:nvPr/>
        </p:nvPicPr>
        <p:blipFill>
          <a:blip r:embed="rId1"/>
          <a:stretch/>
        </p:blipFill>
        <p:spPr>
          <a:xfrm>
            <a:off x="4952880" y="3325680"/>
            <a:ext cx="37339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RELIEF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NALGES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ARCOTIC 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ON NARCOT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MESS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CUPUNCTU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EN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BIOFEEDBACK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MEDITATION,RELAXATIO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SYCHOLOGICAL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IS AS REAL AS PHYSICAL P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BE ACUTE,CHRONIC OR INTRACTABLE, TRANSIE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SUBJECTIVE, INDIVIDUALIZE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PERCEIVED ONLY BY THE PATIE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IN 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HRON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CUT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INTRACTABL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THEY HAVE P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NEVER SECOND GUESS THE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IF PATIENT C/O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TYPES OF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ACUTE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- SUDDEN ONSET,SEVE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CHRONIC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- LESS SEVER, DURATION IS GREATER THAN SIX MONTH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CHRONIC INTRACTABLE-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NOT BE CONTROLLE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TRANSIENT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– COMES AND GOES,SHORT DURATION,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REQUENTLY    NOT SIGNIFICA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BE PART OF NORMAL HEALING (SURGICAL)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HELPS LOCATE THE SOURCE OF TISSUE DAM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OCCUR IN THE ABSENCE OF PHYSICAL INJURY (PSYCHOLOGICAL PAIN)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NOXIOUS STIMULI THAT CAN CAUSE PAIN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HEAT AND COL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RESSU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HEMICAL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ELECTRIC SHOCK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RAUMA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NOCICEPTER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PECIALIZED NERVE ENDINGS 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RE STIMULATED BY TISSUE DAMAGE OR INSUL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ND PAIN MESSAGE TO BR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NOCICEPTERS RESPOND TO…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TEMPERATURE EXTREMES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BURN,FROSTBIT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MECHANICAL DAMAGE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CRUSHING,SCRAPING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DISSOLVED CHEMICALS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ACIDS,POTASSIUM,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15:05Z</dcterms:created>
  <dc:creator>mflanagan</dc:creator>
  <dc:description/>
  <dc:language>en-US</dc:language>
  <cp:lastModifiedBy>mflanagan</cp:lastModifiedBy>
  <dcterms:modified xsi:type="dcterms:W3CDTF">2011-05-01T02:55:09Z</dcterms:modified>
  <cp:revision>3</cp:revision>
  <dc:subject/>
  <dc:title>PAIN</dc:title>
</cp:coreProperties>
</file>